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9D8E-4CC8-408A-86BA-93774A1F6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08DD-0B4D-411B-8DD7-FBF49B78A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55DD-A625-46BF-9C5F-272AF6A64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1150-0BB7-45EA-A8C5-78A67D784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0570-4F79-47D3-9054-75A1EEFBC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0B26-0005-48EE-BEE3-590D66B15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A979-873C-461C-988A-C073C59F0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D905-A750-4C2B-89C6-F8F798587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3722-16BE-45C4-B943-0B87DD4E6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6AA9-7ED8-4171-9AD4-2B42397F9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81A5-E85C-4240-A73B-2463850E4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23F2-074E-4A4B-8696-0CD87DC57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DCA7-0BED-443E-8DEF-CF60B4AC9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034E-9B20-4178-B582-88C6F6E2C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82EA-CAFC-46D5-B31D-7D690012D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18D8-E117-4C92-9AEF-40D2E3708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7209-BDCA-4C28-8AD5-FF1285715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0E7D-E399-46E4-A9BA-019040DCB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8BC3-C375-4BFF-B80F-3C0C67010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E5B3-B463-4B3D-A8CC-D380A1DD3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2551-08C1-4963-B166-576E31786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D88E-5CF9-49E7-A75A-CC251BBA2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90D1-933F-4B9F-A141-507EAD736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34A-C218-4FDD-ABF8-5F71A7C7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64FC-5C96-45F5-906D-D63B888F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DBA-DE6E-463B-A422-546AF989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A096-250D-419E-A3E1-5589E32B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373-309F-40E4-8306-9C216632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CAE-6FC7-4ECB-9737-9EAD7D7F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63F4-0862-44C1-BF2C-EA7BB2E7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6E0-FA10-4064-A22D-85E35D14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EE0-FF87-4A6D-8549-34D549D5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262-A2B1-4337-A4AA-24B36F77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311-CBCB-48F4-89C8-CDC81CCA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961-1D69-44FE-B8B3-BCF50FD1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D5D7-4618-4062-AA26-72E3FD4E0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780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2061-F6DE-483E-9D77-0E462F40EC6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Локална анестезија код деце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7720" y="4060440"/>
            <a:ext cx="77202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09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0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Контакт са дететом, анатомске специфичности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</a:t>
            </a:r>
            <a:r>
              <a:rPr b="1" i="1" lang="sr-RS" sz="1400" spc="-1" strike="noStrike">
                <a:solidFill>
                  <a:srgbClr val="000000"/>
                </a:solidFill>
                <a:latin typeface="Palatino Linotype"/>
              </a:rPr>
              <a:t>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2840" y="6180120"/>
            <a:ext cx="786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20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натомске специфичност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0" y="6424560"/>
            <a:ext cx="37116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2006-F0AF-4BBB-A236-3347C1E0375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ontent Placeholder 2" descr=""/>
          <p:cNvPicPr/>
          <p:nvPr/>
        </p:nvPicPr>
        <p:blipFill>
          <a:blip r:embed="rId1"/>
          <a:srcRect l="4302" t="44687" r="3652" b="9693"/>
          <a:stretch/>
        </p:blipFill>
        <p:spPr>
          <a:xfrm>
            <a:off x="160200" y="2292480"/>
            <a:ext cx="85536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0" y="6424560"/>
            <a:ext cx="3821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E911-C10B-4348-9458-1904B3E6B18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Примена анестезиј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463680" y="1854360"/>
            <a:ext cx="8204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меном одговарајућих бризгалица, танких и еластичних игала и одговарајуће технике рада, могуће је бол приликом увођења иг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мањити на најмању могућу м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пак, неповољни ефекти убода у ткиво усне шупљине потенцирани су и физичким и психичким карактеристикама дечијег у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 ових разлога, приликом извођења сваке врсте анестезије, треба приступити припреми за анестез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0" y="6424560"/>
            <a:ext cx="3740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1304-8271-49F4-AE93-99252AEF8F8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88880" y="2092320"/>
            <a:ext cx="8153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обичајени поступак пре извођења инфилтрационе анестезије, осим успостављања контакта, јесте примена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површинске анестезиј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на се изводи на исти начин као и код одраслих, при чему треба водити рачуна о количини примењеног раствора. Примена веће количине ће имати за последицу површинску анестезију веће површине слузокоже уста и форникса, што изазива веома неповољне реакције де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0" y="6424560"/>
            <a:ext cx="3767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DE11-2846-4993-BDBB-9C2F4E3DD48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38200" y="2092320"/>
            <a:ext cx="80676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ликом стоматолошких интервенција код деце користе се две врсте локалне анестез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вршинск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филтраци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0" y="6424560"/>
            <a:ext cx="3767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A7E8-54D5-487C-AAF8-4536B9F8ECB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1057320" y="1506600"/>
            <a:ext cx="3567240" cy="2378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4697280" y="1512720"/>
            <a:ext cx="3567240" cy="2378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2787480" y="3965400"/>
            <a:ext cx="3819600" cy="25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0" y="6424560"/>
            <a:ext cx="3740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04C3-FD57-4963-879D-3B2F956B5DB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493560" y="1522440"/>
            <a:ext cx="816624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Површинска анесте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д деце се изводи искључиво применом анестетичког раствора који се напрскава на слузокожу ( спреј ) или премазивањем слузокоже анестетичким паст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ца прихватају ову анестезију без отп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добро осушену слузокожу утрља се паста или нанесе раств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нестетик мора бити у контакту са слузокожом најмање 2 мин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вршинска анестезија користи се за лакше интервенције или непосредно пре примене инфилтрационе анест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0" y="6424560"/>
            <a:ext cx="3753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3AA3-32C0-41E6-AA86-FC06F27459D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38200" y="1928880"/>
            <a:ext cx="80424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Инфилтрациона анесте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д деце се користи за интервенције већег обима које се не би могле безболно извести у површинској анестез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се користи терминална плексус анестез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 врста анестезије изводи се на исти начин као и код одрасл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требно је применити мање игле и на одговарајућем месту у односу на димензије ткива уводити иглу и депоновати анестет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штано ткиво код деце је знатно порозније, те је омогућена добра дифузија анестетика. Из ових разлога, понекад се терминална анестезија може користити и за вађење доњих бочних млечних зу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0" y="6424560"/>
            <a:ext cx="3794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9323-8CB4-447C-8EDA-85801E76317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римена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519120" y="1501920"/>
            <a:ext cx="8091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проводна анестезија доњег зубног живца (мандибуларна анестезија) може се применити и код мале деце  (предшколског узраста), при чему треба водити рачуна о положају мандибуларног о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 правилу, до седме године живота, мандибуларни отвор налази се ближе задњој ивици виличне гране и испод нивоа гризних површина доњих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 ових разлога, приликом увођења игле код деце, правац игле треба да буде косо надоле а врх игле постави се ближе задњој ивици виличне г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 одређивање ширине виличне гране најбољи начин је да се палцем палпира предња ивица виличне гране, а кажипрстом фиксира њена задња ив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Content Placeholder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24560"/>
          </a:xfrm>
          <a:prstGeom prst="rect">
            <a:avLst/>
          </a:prstGeom>
          <a:ln w="0">
            <a:noFill/>
          </a:ln>
        </p:spPr>
      </p:pic>
      <p:sp>
        <p:nvSpPr>
          <p:cNvPr id="14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CAF0-FA10-4F64-B040-71F0E4A23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0" y="6424560"/>
            <a:ext cx="3753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98EF-3EED-431A-BF17-7862611732F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озирање анестетичких раствора код де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514440" y="2003400"/>
            <a:ext cx="8091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бог знатно мање телесне тежине, дечији организам може да толерише знатно мању количину било ког лека, па и локалног анестетичког рас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ангово правило за корекцију дозе одраслих у лечењу дец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дечја доза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0"/>
          <p:cNvSpPr/>
          <p:nvPr/>
        </p:nvSpPr>
        <p:spPr>
          <a:xfrm>
            <a:off x="2201760" y="4029120"/>
            <a:ext cx="1690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2"/>
          <p:cNvSpPr/>
          <p:nvPr/>
        </p:nvSpPr>
        <p:spPr>
          <a:xfrm>
            <a:off x="2209680" y="362268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Palatino Linotype"/>
              </a:rPr>
              <a:t>год. дет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2073240" y="4100400"/>
            <a:ext cx="19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Palatino Linotype"/>
              </a:rPr>
              <a:t>год. детета +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4"/>
          <p:cNvSpPr/>
          <p:nvPr/>
        </p:nvSpPr>
        <p:spPr>
          <a:xfrm>
            <a:off x="3857760" y="385776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Palatino Linotype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5"/>
          <p:cNvSpPr/>
          <p:nvPr/>
        </p:nvSpPr>
        <p:spPr>
          <a:xfrm>
            <a:off x="4309920" y="38624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Palatino Linotype"/>
              </a:rPr>
              <a:t>доза одраслих</a:t>
            </a:r>
            <a:r>
              <a:rPr b="1" lang="sr-Latn-CS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740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4156-B56C-40E9-BACE-E17456E2BFF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окална анестезија код деце</a:t>
            </a: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88880" y="1828800"/>
            <a:ext cx="8166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свакодневној стоматолошкој пракси велики број стоматолошких интервенција изводи се код де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ома је важно да стоматолози схвате да је приступ деци, код извођења стоматолошких интервенција, а нарочито код давања анестезије специфичан и захтева максимално  залагање како стоматолога тако и родитељ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C:\Users\Zoran\Downloads\anestezija\imagesCAKR0E2F.jpg"/>
          <p:cNvPicPr/>
          <p:nvPr/>
        </p:nvPicPr>
        <p:blipFill>
          <a:blip r:embed="rId1"/>
          <a:stretch/>
        </p:blipFill>
        <p:spPr>
          <a:xfrm>
            <a:off x="2843280" y="4070520"/>
            <a:ext cx="3456000" cy="23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0" y="6424560"/>
            <a:ext cx="3767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ACC8-C05A-438A-95D1-CEEF6244637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озирање анестетичких раствора код де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488880" y="1979640"/>
            <a:ext cx="810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лази се до закључка да се код деце, зависно од старости, може примењивати од 1/7 до 4/5 дозе одрасл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ко су максималне дозвољене дозе локалних анестетичких раствора за одрасле изузетно велике, примена 1-2 ампуле локалног анестетичког раствора код деце не може изазвати никакве токсичне реа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0" y="6424560"/>
            <a:ext cx="3753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E155-B7E3-4E2E-8B12-5E620E8CF49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стој срца код де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476280" y="1665360"/>
            <a:ext cx="81788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Деца до једне године стар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Дијагноза: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поставља се палпацијом брахијалне артерије ( средина унутрашње стране надлактице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Терапија: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CS" sz="2000" spc="-1" strike="noStrike">
                <a:solidFill>
                  <a:srgbClr val="0070c0"/>
                </a:solidFill>
                <a:latin typeface="Palatino Linotype"/>
              </a:rPr>
              <a:t>А </a:t>
            </a:r>
            <a:r>
              <a:rPr b="1" lang="en-US" sz="2000" spc="-1" strike="noStrike">
                <a:solidFill>
                  <a:srgbClr val="0070c0"/>
                </a:solidFill>
                <a:latin typeface="Palatino Linotype"/>
              </a:rPr>
              <a:t>B C</a:t>
            </a:r>
            <a:r>
              <a:rPr b="0" lang="sr-CS" sz="2000" spc="-1" strike="noStrike">
                <a:solidFill>
                  <a:srgbClr val="0070c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ступ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70c0"/>
                </a:solidFill>
                <a:latin typeface="Palatino Linotype"/>
              </a:rPr>
              <a:t>А = </a:t>
            </a:r>
            <a:r>
              <a:rPr b="1" lang="en-US" sz="2000" spc="-1" strike="noStrike">
                <a:solidFill>
                  <a:srgbClr val="0070c0"/>
                </a:solidFill>
                <a:latin typeface="Palatino Linotype"/>
              </a:rPr>
              <a:t> airway ( </a:t>
            </a:r>
            <a:r>
              <a:rPr b="1" lang="sr-CS" sz="2000" spc="-1" strike="noStrike">
                <a:solidFill>
                  <a:srgbClr val="0070c0"/>
                </a:solidFill>
                <a:latin typeface="Palatino Linotype"/>
              </a:rPr>
              <a:t>дисајни пут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слобађање дисајног пута врши се тако што се лагано, истовремено, врши подизање браде и забацивање гла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0" y="6424560"/>
            <a:ext cx="3753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B8F2-2371-4427-8255-4CA4F73845A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стој срца код де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476280" y="1803240"/>
            <a:ext cx="8104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Palatino Linotype"/>
              </a:rPr>
              <a:t>B = breathing </a:t>
            </a:r>
            <a:r>
              <a:rPr b="1" lang="sr-CS" sz="2000" spc="-1" strike="noStrike">
                <a:solidFill>
                  <a:srgbClr val="0070c0"/>
                </a:solidFill>
                <a:latin typeface="Palatino Linotype"/>
              </a:rPr>
              <a:t>( дисање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штачко дисање се изводи методом уста на нос и уста због малих димензија ових органа код деце. Удувава се она количина ваздуха која се налази у устима реаниматора. Фреквенција удисања износи 20 у 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Palatino Linotype"/>
              </a:rPr>
              <a:t>C = circulation </a:t>
            </a:r>
            <a:r>
              <a:rPr b="1" lang="sr-CS" sz="2000" spc="-1" strike="noStrike">
                <a:solidFill>
                  <a:srgbClr val="0070c0"/>
                </a:solidFill>
                <a:latin typeface="Palatino Linotype"/>
              </a:rPr>
              <a:t>( циркулациј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сто компресије је грудна кост један попречни прст испод инермамиларне лин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реквенција компресије износи 120 у мину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0" y="6424560"/>
            <a:ext cx="3780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E878-D529-4374-8A69-D7EA64F230A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стој срца код де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476280" y="1941480"/>
            <a:ext cx="814212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Деца од 1 – 8. године стар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Дијагноза: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као код одрасл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Palatino Linotype"/>
              </a:rPr>
              <a:t>Сигурни знакови застоја ср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Palatino Linotype"/>
              </a:rPr>
              <a:t>губитак с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Palatino Linotype"/>
              </a:rPr>
              <a:t>одсуство палпабилног пул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Palatino Linotype"/>
              </a:rPr>
              <a:t>престанак дис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Palatino Linotype"/>
              </a:rPr>
              <a:t>промена боје коже и видљиве слузок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Palatino Linotype"/>
              </a:rPr>
              <a:t>ширење зеница (мидрија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424560"/>
            <a:ext cx="3753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FDB8-A8B3-4305-BCE0-A958B270064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стој срца код де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514440" y="1866960"/>
            <a:ext cx="8153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70c0"/>
                </a:solidFill>
                <a:latin typeface="Palatino Linotype"/>
              </a:rPr>
              <a:t>А</a:t>
            </a: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 =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страњивањем евентуалног страног тела и екстензијом врата и подизањем доње ви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70c0"/>
                </a:solidFill>
                <a:latin typeface="Palatino Linotype"/>
              </a:rPr>
              <a:t>Б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= вентилација се изводи методом уста на уста или уста на нос и у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реквенција вентилације износи 15 у мину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70c0"/>
                </a:solidFill>
                <a:latin typeface="Palatino Linotype"/>
              </a:rPr>
              <a:t>Ц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= место компресије је средина стернума. Код деце овог узраста компресија се врши само кореном длана једне ру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реквенција компресије је 100 у мину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0" y="6424560"/>
            <a:ext cx="3726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2FE6-C731-499F-BA28-E48B327F0E0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стој срца код де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514440" y="1828800"/>
            <a:ext cx="809136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Примена лекова у току ЦПР код де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ристе се: Адреналин, антиаритмици (амиодарон, лидокаин) и атроп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дреналин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изазива вазоконстрикцију, пораст дијастолног крвног притиска, побољшава коронарни перфузиони притисак, повећава контрактилност миокар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је се разблажен, 1 мг се раствори са 9 мл 0,9%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NaCl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у дози од 0,01мг / кг телесне ма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0" y="6424560"/>
            <a:ext cx="3726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D6DA-23E9-4B17-A1A1-4CF38E900AE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Palatino Linotype"/>
              </a:rPr>
              <a:t>Застој срца код дец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463680" y="2092320"/>
            <a:ext cx="805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Лидокаин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 мање ефикасан код вентрикуларне фибрил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четна доза је 1мг/кг у болусу, а затим се наставља са инфузијом у дози од 3мг/кг телесне ма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тропин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 смањује тонус симпатикуса. Даје се у дози од 0,02 мг/ к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инимална доза је 0,1мг, а максимална 0,5 м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Date Placeholder 3"/>
          <p:cNvSpPr/>
          <p:nvPr/>
        </p:nvSpPr>
        <p:spPr>
          <a:xfrm>
            <a:off x="0" y="6424560"/>
            <a:ext cx="369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CE6B-A955-4AFD-AF67-4F7167896C0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стој срца код де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488880" y="1928880"/>
            <a:ext cx="819144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Најчешће грешке у поступку реани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адекватно ослобађање дисајног п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брзо и прејако удувавање ва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ос пацијента није затворен код дисања уста на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одговарајућа подлога на којој лежи пациј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правилно место компрес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слаба или прејака компре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вајање дланова реаниматора од зида грудног коша при    прекиду компрес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0" y="6424560"/>
            <a:ext cx="3835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860D-7D3B-46EB-A766-07A98EF794F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окална анестезија код деце</a:t>
            </a: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501480" y="2079720"/>
            <a:ext cx="8040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ца, поготову она млађег узраста, нису у стању да схвате информације о локализацији, трајању и посебно, интезитету б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ца су, такође, мање од одраслих у стању да прихвате и толеришу б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ве ове чињенице отежавају рад са децом, па није редак случај да се стоматолози више плаше деце него што се деца плаше стоматол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0" y="6424560"/>
            <a:ext cx="3726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0B43-C1A6-40E4-8705-B1B8AF5F108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окална анестезија код деце</a:t>
            </a: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525600" y="2455920"/>
            <a:ext cx="811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Један од најважнијих услова који се апсолутно увек мора обезбедити у раду са децом је </a:t>
            </a: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безболност</a:t>
            </a:r>
            <a:r>
              <a:rPr b="0" lang="sr-CS" sz="2400" spc="-1" strike="noStrike">
                <a:solidFill>
                  <a:srgbClr val="ff0000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Ово указује на значај примене различитих метода локалне анестез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нтакт са дететом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0" y="6424560"/>
            <a:ext cx="37940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796D-D49F-4893-9028-266B5C3A5BE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476280" y="1841400"/>
            <a:ext cx="8204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а децом треба успоставити добар контакт и стећи одговарајуће поверење детета, што у многоме олакшава даљи р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 ових разлога, припрема за интервенцију мора бити знатно дужа, како би дете емоционално прихватило потребу примене локалне анест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C:\Users\Zoran\Downloads\anestezija\imagesCAV3BU84.jpg"/>
          <p:cNvPicPr/>
          <p:nvPr/>
        </p:nvPicPr>
        <p:blipFill>
          <a:blip r:embed="rId1"/>
          <a:stretch/>
        </p:blipFill>
        <p:spPr>
          <a:xfrm>
            <a:off x="2986200" y="3556080"/>
            <a:ext cx="29653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онтакт са дететом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0" y="6424560"/>
            <a:ext cx="37530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2D53-1D95-4A21-BAE6-D88EA337767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501480" y="1954080"/>
            <a:ext cx="8153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раду са децом треба примењивати метод поступности (корак по корак), чиме се детету даје времена да се привикне на предстојећу интервенц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том циљу, детету треба пружити прилику да разгледа стоматолошку столицу, инструменте, светло, објаснити му предстојеће поступке, и ни у ком случају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не лагати г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0" y="6424560"/>
            <a:ext cx="37670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2AF5-C802-4916-B1B1-3D02B5D6D8C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натомске специфичност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76280" y="186696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натомска грађа вилица код деце разликује се од вилица старијих осо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орња вилица у дечијем узрасту је знатно порознија од вилице одраслих, посебно у пределу алвеоларног наставка, што олакшава дифузију анестетика кроз коштано ткиво, али и омогућава бржу ресорпцију са места делов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доњој вилици је распоред компактног и спонгиозног коштаног ткива исти као и код одраслих, због чега се и у дечјем добу примењује мандибуларна анестез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0" y="6424560"/>
            <a:ext cx="3699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CD98-4DD7-4840-A063-80AE828A0E6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натомске специфичност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88880" y="1703520"/>
            <a:ext cx="8178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огледу анатомских специфичности птеригомандибуларног простора, важно је истаћи да се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ложај мандибуларног отвора мења са растом вилиц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раном узрасту, он је локализован више ка задњој ивици виличне гране и испод оклузалне равни доњих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а растом вилица, мандибуларни отвор се помера ка предњој ивици виличне гране и подиже тако да лагано заузима средишњи положај на унутрашњој страни виличног настав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натомске специфичност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9" name="Content Placeholder 6" descr="Pag44fig_1.jpg"/>
          <p:cNvPicPr/>
          <p:nvPr/>
        </p:nvPicPr>
        <p:blipFill>
          <a:blip r:embed="rId1"/>
          <a:srcRect l="2861" t="-291" r="16618" b="913"/>
          <a:stretch/>
        </p:blipFill>
        <p:spPr>
          <a:xfrm>
            <a:off x="0" y="1346040"/>
            <a:ext cx="4581360" cy="4599000"/>
          </a:xfrm>
          <a:prstGeom prst="rect">
            <a:avLst/>
          </a:prstGeom>
          <a:ln w="0">
            <a:noFill/>
          </a:ln>
        </p:spPr>
      </p:pic>
      <p:sp>
        <p:nvSpPr>
          <p:cNvPr id="100" name="Date Placeholder 3"/>
          <p:cNvSpPr/>
          <p:nvPr/>
        </p:nvSpPr>
        <p:spPr>
          <a:xfrm>
            <a:off x="0" y="6424560"/>
            <a:ext cx="37116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9</a:t>
            </a: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A6DF-74A7-4C65-A175-6CB6D2DCAFA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Users\Zoran\Downloads\anestezija\Pag44fig_2.jpg"/>
          <p:cNvPicPr/>
          <p:nvPr/>
        </p:nvPicPr>
        <p:blipFill>
          <a:blip r:embed="rId2"/>
          <a:srcRect l="1442" t="0" r="-773" b="8124"/>
          <a:stretch/>
        </p:blipFill>
        <p:spPr>
          <a:xfrm>
            <a:off x="3808440" y="1481040"/>
            <a:ext cx="5335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ds</dc:creator>
  <dc:description/>
  <dc:language>en-US</dc:language>
  <cp:lastModifiedBy>Stefan</cp:lastModifiedBy>
  <dcterms:modified xsi:type="dcterms:W3CDTF">2020-01-30T12:21:28Z</dcterms:modified>
  <cp:revision>590</cp:revision>
  <dc:subject/>
  <dc:title>NAZIV PREDAVANJA</dc:title>
</cp:coreProperties>
</file>